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133-DE2D-4C9A-8ECC-AA8F24F6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E1F-9AF7-429D-A967-E79225F0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935-EA2F-4DE4-8EE0-552C8C94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D64-24E7-4D3B-8ADD-69FD7C26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3AC-2AFF-400A-99D6-EB71C22C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AE98-2A4E-41E3-8EBE-0A3B2E52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44FB-C2DF-4803-9FF8-20309CB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F640-1694-4CD3-976F-B88C9039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C139-D487-449B-88C1-A8ACC98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DFF1-3180-4296-B28C-BCB7867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3854-FF6A-4F5A-9ACE-4A32790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92B-4549-4BA9-8341-70844C5A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065-4B3A-49FB-B695-6CA20FB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64CE-DEA8-4DF4-8D2A-F9818E2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4391-87CC-4544-B30C-41F2C30B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3B56-4238-46F2-92B6-D75290A8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EB39-799D-4CA9-9B82-70E6F5CD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F3F-B563-463E-8156-F40B59C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AF6-C060-49C3-8A73-97A5C3B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2B0-8147-432B-9C15-230657F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EEB-C15A-459C-A410-0C1DA5B8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A58-7B56-48D5-B4D0-07EAEA4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7FC-E063-4ADF-9876-DB5DB90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39C-A187-42A3-A1D1-49E4B3E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A964-0B24-4A93-A8A9-9FFA96BC82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96D4-8E17-408E-9592-79F107A9EC3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o Tell The Good New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rouble Arises In Jerusalem</a:t>
            </a:r>
            <a:br>
              <a:rPr sz="4000"/>
            </a:br>
            <a:br>
              <a:rPr sz="5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rt 2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2  Less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21:17-22:2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pages 186-1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nias came to Paul and said “ Brother Saul, receive your sight and immediately he could s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nias told Paul what God had planned for hi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know His w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ee Jesus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a witness for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appeared to Paul again and told him to leave Jerusalem quick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prote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sus said “ I am sending you to the Genti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gift from Gentile Christi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brethren received them warm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nt in to see James and the el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told all that God accomplished among the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mes and the elders glorified G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Jews did not reject the gosp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believ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ieving Jews thought Paul taught the Jews who lived among the Gentiles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p following after Mo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circumcise their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270828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live according to the customs of the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elders advised Paul to pay expenses for a vow (probably a Nazirite vow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clarify Paul’s position on the customs of the Je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elders still firmly believed that the Gentiles did not have to keep the law of Mo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took their ad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ul Arrives In Jerusalem</a:t>
            </a:r>
            <a:br>
              <a:rPr sz="40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(Acts 21:17-26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’s convi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entiles were not subject to the Law of Moses in any 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Jewish Christians could observe the customs of their fa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long as they did not bind them as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ostolic example is an important way to establish authority for 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less God demonstrates His disapprov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he Jews Start A Riot</a:t>
            </a:r>
            <a:br>
              <a:rPr sz="40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(Acts 21:27-3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ws from Asia charged tha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ul taught against the people, the law, and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ul brought a Greek into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iot grew like a f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b seized Paul and dragged him out of the t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ob was composed of Jews from Jerusa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The Jews Start A Riot</a:t>
            </a:r>
            <a:br>
              <a:rPr sz="4000"/>
            </a:b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(Acts 21:27-3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oman authorities rescued Paul from the m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bounded him with two cha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took him to the Tower of Anto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hief captain (the tribune) thought Paul was a terro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 Requests Permission To Speak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(Acts 21:37-40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asked to speak to the mo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aid: “I am a Jew from Tarsus in Cilicia, a citizen of a prominent city, and I would like permission to speak to the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was granted permission to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poke to them in Aramic (the language of the common man in Israel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Paul’s Defense before The Mob</a:t>
            </a:r>
            <a:br>
              <a:rPr sz="32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cts 22: 1-21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sai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, too, once persecuted this W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the Lord whom I had been persecuting, appeared to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ord said I would be told what He had planned for me to 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ul was told to go to Damascus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1:33:57Z</dcterms:created>
  <dc:creator>robert marshall</dc:creator>
  <dc:description/>
  <dc:language>en-US</dc:language>
  <cp:lastModifiedBy>robert marshall</cp:lastModifiedBy>
  <dcterms:modified xsi:type="dcterms:W3CDTF">2007-01-29T15:10:46Z</dcterms:modified>
  <cp:revision>3</cp:revision>
  <dc:subject/>
  <dc:title>Go Tell The Good News  Trouble Arises In Jerusalem Part 2</dc:title>
</cp:coreProperties>
</file>